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0539-BC6F-400F-8B35-15932C7F2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D589-044A-4618-B833-5475608D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47DC-F07A-45F6-ADC2-F1797234B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45C2-6AB5-4ADB-8BF0-17F42228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0357-CA0C-4FE0-92F6-A6188628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5857-480B-4512-AEFE-EEC29C3E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098B-67A7-4EB1-8A9D-8E9E270B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D1C1-4EA2-4B3E-A068-D6B5862F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8AE8-1549-4D2E-937C-7D4A1226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E3F2-3FD2-4B20-A60E-FF627EBE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AC59-F336-4A93-8CFE-3AE01E59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0F10-7F48-4E53-A9D8-69F97534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3ACA-F2FA-474D-A578-F23AE3079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55 Namiesto mňa Boží Sy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miesto mňa Boží Sy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golgotskom kríži zomr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esol ťarchu mojich ví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ám, môj Pán, Vykup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sa slávy neba vzda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mne život darov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môj hriech tak preveľk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trpel, drahý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značené nave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zvami sú tvoje dla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a krv ma spasi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restu smrti zbavi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o sa ti odplat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 môj, čo ti dať mám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 svoj ti zasvät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je srdce ovládni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môj, ja tvoj chcem b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veky chcem s tebou ži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34:12Z</dcterms:modified>
  <cp:revision>33</cp:revision>
  <dc:subject/>
  <dc:title>Je veľký náš Pán, on slávy je Kráľ Nech do všetkých strán  spev vrúcnych znie chvál.</dc:title>
</cp:coreProperties>
</file>